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AAF5-0221-4E16-AA3D-9746D3B4B1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D1A6-CBE7-4D95-B79A-40D49B2323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F0FD-3F57-4A39-A11F-81314E3040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FA8E-07A7-42BA-AC13-39C93E98BF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AB83-5758-49C7-BE78-BCEE94ABD5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C8FE-B0C9-4279-8348-244901D30F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7A01-FFD0-4F72-B7FB-59CC7982BE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549-B5B8-43BD-9AA1-6EDE0E6D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7A8-CB2C-4914-9AB1-26E96B55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D0A4B-C35D-4A8B-8556-197ADCD6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87C55-7325-483A-9D70-B757CF4A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24ED0-FB00-4105-A0F7-F52E00DF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26BD2-50B6-4942-8B89-F7F4C18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00679-D0FB-4C99-97A5-7F84065B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BC403-4A57-498F-8B06-9EF67C98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61CB8-E8E8-434E-B81E-D3D0CC68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49920-135C-410C-970E-1DE4F56D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68540-9D72-4A0B-8B05-D3A489A0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E68-1946-4FAD-8C21-161FADE5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058-286E-4900-A0D1-2C95264D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FBDD-0683-4968-A5C2-348D1B71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D19D-6E9B-4FDB-8A85-C97B2BCD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F28D-C524-4561-B050-5FDEBF0E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B15C-1640-4971-AEE9-E6A84445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C0B9-5A63-4112-B03C-32B9DACD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2E15-C80A-4537-B071-8D4507D5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CD60-DE94-4A28-850A-57D8CFAE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DE4-967B-44C6-B6AD-416B1D7D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F92F-85D2-4D06-8588-88307B52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D28F-1B8C-4943-AA87-8C5630CB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3330-4F51-4DEC-8B46-3CCB8825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43E7-ED50-4C6C-A99A-EC3FB6E3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63E3-EB90-4FD2-8DC4-6741AB39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1195-2E59-47D2-8420-0F74D382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BDFE2-C27C-484D-AFAA-785AD7FD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121F-2123-432D-BFCF-B0912EBB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62B8-C597-4D1B-B7C5-417ED29C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29B1-C925-4C1A-A9D4-A4555AB7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824-9999-4A95-9CAD-21D543A3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F417-3F62-4D0A-880D-3D32FB5F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178DB-098E-4A1D-9785-9DEE243D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AEC9-E5C2-4C05-BDC2-0AEF39BB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09759-41F1-4096-B918-61FC931E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4B8F-2655-4A27-9400-62A419E8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3E4F-E124-43B9-90BB-75FCA6A7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D304-E017-4A9A-9D1D-59084414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6A76F-4100-42CC-A395-07175D6B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E8688-1260-4823-8991-6493CF38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4D1F9-8164-4167-8ABE-945FED36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166-A02F-4F14-8F77-2BC69C39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B378F-5FA7-402F-81E6-8F5AAE0C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16FA-7BA9-4808-BF2C-B82F298A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1FE0B-9970-49DD-A955-786B36AA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6A67D-0EEE-40B1-A768-8F0EA1CC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C000-D0D3-42F0-8BB9-3CAFA5A2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F8D88-CED4-4A90-8D40-F0774D17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00F44-093D-45AB-AF0D-72BDE937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D509A-559E-4A00-8BED-EB762E10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A47B-EBEF-4DD7-B0E4-73F0CDA6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823BD-B565-413E-BC3C-1E543B1F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449-A342-477C-AA9C-A923142B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8A216-3D5B-464E-ADD6-EDE498D3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DB7DB-7E0B-40D2-BB8A-7E8C0542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CF55E-31AD-434C-8D1F-A9566E1B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969A9-8D16-4D54-B613-1AC15C6E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996C-5AAA-46A7-8447-A7C52F34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D89F4-B2ED-4A19-9E08-34830C09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4B1EB-08EE-4E55-B4E3-88D46AE2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98CFC-37ED-4267-9D34-A824E50E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24F2D-6E8B-4149-BA99-CB1720D5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482FF-CE64-474D-84F9-43844E99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2E8-96F9-4EFE-8BBA-51EF1074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89089-4AF1-44A7-B462-0D9BB1E2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4A6AB-4FBF-4D40-A9B9-46FBDE60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8318E-9AF2-4967-8D3E-AD111815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81E5A-2C36-4E23-B9CA-0C92CC60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AA8DE-BEA7-410B-91A9-F2A1E6B5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66F7A-8624-431F-BAA0-45C8DDCF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07373-8E66-4DF4-9D57-DD2EDD46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6D3E4-0608-40A1-98F7-4C74E985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5C776-A0AE-45D4-ADFB-E9D7FF92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4F26E-7A42-4283-A034-CF7BA686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CBC-FF07-4A7D-966B-65CF80EB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A6B8A-07F6-4FF2-A6DD-02A42D67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1A682-42E0-4F1B-8517-1D55A2EB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D9651-5834-49E0-85FF-97783CFC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6E5D6-08C5-4A1C-91B5-07CE1CED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E54A8-3658-41E2-ABE3-064BA011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DAA3E-A41B-4898-A89C-B452C90A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97B32-9912-403C-AB50-6428AE59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7854B-028B-4664-BD25-6B0D5651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1961C-4B42-4913-B41B-17DD3ECB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55C8C-E1A3-4036-9C90-D0A46854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273-A00C-4D98-87C7-D68D13F7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2EE87-2E84-4B4B-A358-9C87A6AB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73942-578E-479C-AFD2-AE68F950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C4D43-90FE-43D3-B910-2EDFAF71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075CF-E63A-4CC5-9891-56F28037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137EB-8483-41E3-8D50-4603860C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D7FC1-4F55-4FE2-A5B6-5D6A8FBF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A1FC2-CD49-4E82-AFE9-8A6EDC29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C2DC0-E525-46A9-9DEF-23332BCD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D1F63-7A47-479E-9D3F-2AF805BE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DF634-3E87-4D91-B41F-29A3E6FC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839-C53D-4F6E-ADD9-A9A334AB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32A78-C9DA-45D9-88CA-2F89ECB0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465B7-6098-4C2D-BB8B-2096BA36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02E71-8DD3-463B-A895-677E02A3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F6E50-5AEE-449D-939D-AAA4EC95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BD2FB-7781-4D2C-AE38-AF370810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B431F-1D8A-496D-974B-5FF887AF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CDABA-77AA-4BB3-8B8D-32D5FA90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3A703-1AC4-4676-AC7E-C2570112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C98D1-6BD5-40AA-9960-9A78E678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EC1C6-EDBE-422E-8DC6-09DFA547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04D4-328D-4E19-84E4-D0C5EEE50C8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9F29-490A-4E9C-B2C2-F1795087EEB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D612-46A3-4BAA-A581-BF51879F4E5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70EB-3528-4691-831E-C764C2FD38D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2F27-53D2-48D1-98AD-B02F693F0C6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B26E-8D9A-4D0E-A53E-5BC3C9EAD44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C4BC-0BE9-436B-A8EF-49353086D9B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54DF-C860-4A0F-AB41-D722C808022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733E-78B0-4FCF-8CD0-F7664E5BB6A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F4AB-CDED-42A4-9B5C-15E932C25B8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B145-CA23-4305-B545-70F1A802E4C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9C2A-56FF-4552-A6CE-B9A0283D9FB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B0FA-74CB-4918-84F0-E9A6331F5D7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1481-AB2E-4CB9-9C9C-DFF1DD3ABCA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1F3C-414A-4C76-89E7-9C5AFB223E3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A022-827F-48F2-9530-647E4F001A0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D080-0B2B-44C1-8275-1B8FD90D499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CDA7-AF2C-4F84-94FB-5FBAD87C270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" descr="manhattan-under-water.jpg"/>
          <p:cNvPicPr/>
          <p:nvPr/>
        </p:nvPicPr>
        <p:blipFill>
          <a:blip r:embed="rId2"/>
          <a:stretch/>
        </p:blipFill>
        <p:spPr>
          <a:xfrm>
            <a:off x="714240" y="642960"/>
            <a:ext cx="7643880" cy="61912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-728280" y="3687840"/>
            <a:ext cx="10859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5" descr="calentamiento_global.jpg"/>
          <p:cNvPicPr/>
          <p:nvPr/>
        </p:nvPicPr>
        <p:blipFill>
          <a:blip r:embed="rId2"/>
          <a:stretch/>
        </p:blipFill>
        <p:spPr>
          <a:xfrm>
            <a:off x="2428920" y="571680"/>
            <a:ext cx="4500360" cy="318600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-582480" y="5715000"/>
            <a:ext cx="100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6" descr="climatechange1.jpg"/>
          <p:cNvPicPr/>
          <p:nvPr/>
        </p:nvPicPr>
        <p:blipFill>
          <a:blip r:embed="rId2"/>
          <a:stretch/>
        </p:blipFill>
        <p:spPr>
          <a:xfrm>
            <a:off x="1000080" y="714240"/>
            <a:ext cx="7358040" cy="50799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-471960" y="5715000"/>
            <a:ext cx="91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5" descr="4571_1227989575.jpg"/>
          <p:cNvPicPr/>
          <p:nvPr/>
        </p:nvPicPr>
        <p:blipFill>
          <a:blip r:embed="rId2"/>
          <a:stretch/>
        </p:blipFill>
        <p:spPr>
          <a:xfrm>
            <a:off x="1000080" y="642960"/>
            <a:ext cx="7215120" cy="519444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-384120" y="5715000"/>
            <a:ext cx="90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6" descr="zasuha.jpg"/>
          <p:cNvPicPr/>
          <p:nvPr/>
        </p:nvPicPr>
        <p:blipFill>
          <a:blip r:embed="rId2"/>
          <a:stretch/>
        </p:blipFill>
        <p:spPr>
          <a:xfrm>
            <a:off x="1428840" y="64296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-459720" y="5715000"/>
            <a:ext cx="97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5" descr="Mt Hood, Oregon.jpg"/>
          <p:cNvPicPr/>
          <p:nvPr/>
        </p:nvPicPr>
        <p:blipFill>
          <a:blip r:embed="rId2"/>
          <a:stretch/>
        </p:blipFill>
        <p:spPr>
          <a:xfrm>
            <a:off x="714240" y="642960"/>
            <a:ext cx="6715440" cy="484200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7:37:02Z</dcterms:created>
  <dc:creator>user</dc:creator>
  <dc:description/>
  <dc:language>en-US</dc:language>
  <cp:lastModifiedBy>LEGION</cp:lastModifiedBy>
  <dcterms:modified xsi:type="dcterms:W3CDTF">2014-12-30T11:21:24Z</dcterms:modified>
  <cp:revision>9</cp:revision>
  <dc:subject/>
  <dc:title>Глобальное потепление</dc:title>
</cp:coreProperties>
</file>